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18D4-75CF-4AE1-88D0-133C642FD0EC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E Estre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68280"/>
            <a:ext cx="79930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idade dos Empre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o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as 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55736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dade instalada: 1.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ção: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do Reservatório: 555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em descont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- (Fotovoltaica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s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–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$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25360"/>
            <a:ext cx="8353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 realmente necessário aumentar a oferta de energ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lternativa de geração hidrelétrica é a melhor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 ao empreendedor substituir a ausência do Esta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ng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 o critério para definirmos quem é diretamente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stro dos atingidos, critérios para inclus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tratar a população menos favorec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ção única por reassentamento rural cole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arias opções a critério de cada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idade dos atingidos, critérios e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to Voltaica - 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S DOS EMPREEND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565360"/>
            <a:ext cx="8353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e critérios dos seus en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álogo permanente entre o Ministério Público e 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os limites de atuação e encargos d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visto como Estado no atendimento das demand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mento de R$ 2.200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as estruturas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268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ito de atendimento ao universo dos atingido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etários – Indenizaç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proprietários – Somente benefícios e compensaçõ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diretos para os diretamente atingido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indiretos para os indiretamente antigi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mento direto ao universo dos atingidos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ia da infra-estrutura públ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tamente atingidos: moradores na área inundada e devidamente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tamente atingidos: moradores lindeiros e eventuais usuários da área inundada e beneficiários das melhorias de infra-estrutura realizadas pelo CES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entos de levantamento e avaliação da terra nua e benfeitorias mediante metodologia cientificamente validada e apresentada ao público atingid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ção quando requerida pelo atingido do acompanhamento do M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2682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s de boa fé terão mesmo tratamento de proprie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ém canal aberto de comunicação com a população envolvida e as autoridades locais, através de Centro de Comunicação Social, funcionando em Carolina/MA desde 02/04/03, objetivando esclarecer ao público-alvo da região de interesse, questões relativas à implantação do empreendiment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o de Licenciamento Ambien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dido de licença de estu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11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 Termo de Refer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1/04/200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o EIA/RIMA ao IBA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IA/RIMA disponível para consul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3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diências públicas rea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5/07/2002 à 19/07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inici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9/01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do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/02/2003 à 27/0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 visita técnica de cam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04/2003 à 11/04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issão de parec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9/08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a complement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/1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Prév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de Instalação          dezembr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ício das obr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a unidade #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981000"/>
          <a:ext cx="50562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50562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9520" y="105264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.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dio da Luz</cp:lastModifiedBy>
  <dcterms:modified xsi:type="dcterms:W3CDTF">2004-04-13T17:22:57Z</dcterms:modified>
  <cp:revision>196</cp:revision>
  <dc:subject/>
  <dc:title>Slide 1</dc:title>
</cp:coreProperties>
</file>